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043D-433A-40BF-9FA4-6CE7B9526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731B-4F8F-4EC1-81F9-130B2C796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1FBD-3F5F-4C7B-ADD6-B137DEC7B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8F33-5CAA-4C4C-897D-2531AA7AB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050C-1ECC-40A7-B8AB-B8F84B9FD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4BB8-94FE-4EFD-BB33-85F47938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608A-53DB-4FD6-91D0-7AC3B1858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E6F0-E157-45B6-B3C9-1B02E5810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94D2-3DE9-47FB-8694-E11904858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1B01-676D-4857-B155-0F2FD754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5ECC-4802-465B-BED4-7B1FE4D8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4739-64B3-4CD7-AB36-B307A5C4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A3B1A-6B95-4567-90F8-F4BA120F5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GPT ending 1 (SLD-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hrough your Son, Jesus Chris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in your holy Church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ll honour and glory are your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Father almight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now and for ev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00:13:10Z</dcterms:created>
  <dc:creator>Anon Anon</dc:creator>
  <dc:description/>
  <dc:language>en-US</dc:language>
  <cp:lastModifiedBy>Anon Anon</cp:lastModifiedBy>
  <dcterms:modified xsi:type="dcterms:W3CDTF">2005-08-09T05:25:22Z</dcterms:modified>
  <cp:revision>11</cp:revision>
  <dc:subject/>
  <dc:title>PowerPoint Presentation</dc:title>
</cp:coreProperties>
</file>